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1.png" ContentType="image/png"/>
  <Override PartName="/ppt/media/image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2.png" ContentType="image/png"/>
  <Override PartName="/ppt/media/image50.jpeg" ContentType="image/jpeg"/>
  <Override PartName="/ppt/media/image25.jpeg" ContentType="image/jpeg"/>
  <Override PartName="/ppt/media/image37.jpeg" ContentType="image/jpeg"/>
  <Override PartName="/ppt/media/image60.jpeg" ContentType="image/jpeg"/>
  <Override PartName="/ppt/media/image36.jpeg" ContentType="image/jpeg"/>
  <Override PartName="/ppt/media/image23.jpeg" ContentType="image/jpeg"/>
  <Override PartName="/ppt/media/image12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4.gif" ContentType="image/gif"/>
  <Override PartName="/ppt/media/image32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5.jpeg" ContentType="image/jpeg"/>
  <Override PartName="/ppt/media/image19.wmf" ContentType="image/x-wmf"/>
  <Override PartName="/ppt/media/image57.wmf" ContentType="image/x-wmf"/>
  <Override PartName="/ppt/media/image14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4.jpeg" ContentType="image/jpeg"/>
  <Override PartName="/ppt/media/image3.jpeg" ContentType="image/jpeg"/>
  <Override PartName="/ppt/media/image41.png" ContentType="image/png"/>
  <Override PartName="/ppt/media/image42.png" ContentType="image/png"/>
  <Override PartName="/ppt/media/image43.jpeg" ContentType="image/jpeg"/>
  <Override PartName="/ppt/media/image44.wmf" ContentType="image/x-wmf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40.jpeg" ContentType="image/jpeg"/>
  <Override PartName="/ppt/media/image5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24E-DEA6-41F6-909B-A909B47A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0E7-93A4-4C1D-ABA4-2585B20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C2326-4776-4FEC-A441-2C05EEB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35B72-B27F-4A45-B48C-0DEDA8B8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77BE24-B820-42BA-81A5-EFF395AA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B1B9A9-BB85-49D7-9A6E-A1ED4A9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38400-87E0-45BE-8A4C-C18388A9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37C14-8EA2-40C8-ACCB-CEA4D290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CB9290-2354-406F-B4CA-B8C7B32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164254-8ED6-4229-8FA7-3176B302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0DE62-E8C1-4B80-A1AD-E99CDDBB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31B2C-1ECB-48FC-9375-A28C0E7C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E5F-2447-480D-AD4A-E9882AAE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6E9A4-BBA7-4723-A1D2-65851998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942C2-C4DB-48AD-AA33-95F2416F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AEF2B-A2F4-47ED-88AB-38E1EF14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164D5-C3FB-491B-AA37-F6465F7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5BB7E-DF64-4DB7-9B10-68B9E4C2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EE104-3BB1-48DD-A306-78D1AA8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D98B8-B2C7-407F-AE96-C8FDC82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FD5F5-927A-4DEA-B623-1433FBA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D8E74-4CA7-4187-9F92-69DB6795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061B3-0CA9-4E7F-A7FD-D1B0111D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99F-2A0E-45A8-B883-B1721103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8F2AC-A728-4243-B54F-32E4664C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A6558-DA77-4410-9E4D-456F82B4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60B47-E50C-46ED-A9B3-F8AABA3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11011-B225-415D-B6DD-28459DF1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8FD8F9-983C-426F-B2DF-2CE640F8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7DE1DD-EEE7-41F9-9752-645D9C3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81B4AD-2899-467B-B45C-85D05725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C6543-541B-498B-B935-7FECBEC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DBA284-6745-4AF0-AC3D-F7107FA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C3E1B-F70D-4DE6-B470-CE140B5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5AC9-A97C-4370-B57C-3E1C0E8C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0B49DE-EB7D-49DC-87E4-097216AB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0B4DD9-8F53-4F73-AEBD-B4E1F957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7F85AD-72BE-4435-8B82-0C04E74D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645DB-BF02-4A2C-9338-4D27781E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3D105-AAD5-4B24-9581-24D82B9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42E76-A79B-48F6-8301-9C19FBD0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22E4E-B757-46EA-B334-882E6ED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90AA6-BCD8-4762-9629-1A464D78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789EA-0939-4C4B-843D-68B9A06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DD0F1-50D9-45B0-AAC4-DC4AB5D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11DB-DA39-41B8-A9A5-21AD9F9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36C4C-37F5-42EE-A597-DBB1E7FB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9535B-8BCA-4864-955E-483EE6F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9B000-FCE6-45D7-B20E-3FEDB114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D2D06-FBD1-4FF7-B59A-5E1257AB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D1951-ACE4-4C18-852A-467E57C2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E5C3D-51C6-43D8-9EBB-1E264593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FD2A4-1763-428B-A182-533702A2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F9C93-6BE3-420D-A712-B860AE76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9CF60-37BD-4784-B87A-6071310D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4848A-CC34-4CC1-B881-552DE75E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9C3C-EFB3-476A-A39D-1F216991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519EF-C1E0-442C-A525-34C0B032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D5EB0-782E-41C4-BACE-F09FF09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DB4CA-8509-46DC-A40E-9E5D5F5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5D2B9-AE64-4D38-B08E-4CC3D948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E9836-5135-4728-91D5-7DF4C54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C4197-F77B-4591-B3BC-D16FE047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F73F1-E1BE-4EDC-B757-2621982B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2E15E9-1BE4-4346-86FE-09393D5D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2885E5-263F-4CC5-A68E-ABA6EC25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6FBC12-0D7C-4610-AD22-8EEAC094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816A-2747-4073-AD59-366B07DF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3EB79C-C5C0-4C43-9A7E-8E634374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E15F5F-4888-4E9B-AF13-B906CA8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2ED13C-F162-4B03-B707-2B6DA658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CB4AA9-B885-428B-8B36-695DE9F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A40208-59FE-4E91-856F-A344D67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7814C2-D68C-4675-B504-5E26E07F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44A2CC-25CF-4C57-AC02-CCA24623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5240D0-1BC7-4FC1-9792-D6274B9C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A0E035-0A94-4094-B0C7-6A242CCD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8736-9794-4629-ABCB-1B22A487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1922-A876-4D68-8B9D-A3025CC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1EFD-64AF-476B-8366-4C4C691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8C-F6C1-40B1-B049-50BD40AC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71EE-5860-4BBF-B02C-F7254AB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3595-1085-49E2-8DB2-1C14B0E1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D61F-E51D-4A65-8C2A-F7053511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F1F5-B549-4029-AE15-39A16400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E5DD-BB2E-4348-946D-90C3937C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988F1-5A59-4BC8-9FB5-37B84196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7D5C-C71F-4C92-94DE-1583E04C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E37B-E9B0-4B1D-AA33-307FC4E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E0070-48FF-4FC1-A54F-CAA93D68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B1BB-113E-4A54-BC60-CB4334E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97C-A85C-4DF1-AB5B-E507258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F6109-0FB0-46D1-A969-489ACD3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225F0-72F7-41AA-BAFB-1A4956B2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93B3-5794-43FD-9D73-7A9E90A6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F96C6-EDDE-4053-AF5B-F2228DD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F6B6-977B-4AF3-BAF6-1846137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C703-5075-493D-9E91-0B4993AC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A8B3D-2555-452E-A1B9-CA29EE78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21717-A916-4530-9237-8D8EA008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FD0A-267C-4350-B1CB-6775D883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E23E0-2CE7-455B-8573-C3F4F25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37D-1E8B-40C0-9BC4-F8F92C15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9489F-0A61-455F-AAA6-37EBB75E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1E85-68AC-4A83-B26F-7FC75EDB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6D90-2503-4526-B808-1553D561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1465-A598-4C47-BE1A-71A0D57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2EEF-F00D-4ACC-AC64-DB2FD73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B258-A44B-43E5-B884-22EC754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FFD83-ADAE-4C02-9FA3-76FC4594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967F1-31C2-439A-AE6C-427DFF13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CE01-C9D4-463B-AB55-DC968A9E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CF0A-C3C5-4012-89D8-8F6777D0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B3D-8287-4FDE-8233-2451DC3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6F71-0EFB-48BE-AEDE-51A7DC98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4B89E-2109-41D6-B32D-CBFE8F0A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AF24-E63F-465E-8732-56EF1E47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91683-7B8F-4269-8C7F-3E802954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AB7DC-ADD2-41AC-B391-DCC8ACE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59697-9F57-43FE-A3F6-888BC96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9E20-D832-4B44-B46D-FA3EE83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1F28-C22D-4271-9349-E04F8FA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26577-96D0-4B41-BAAF-B2193968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C619-F9A3-48FE-87A7-05BBA0B8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6FB3-A853-46B8-A04F-EAF1B56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A21C7-E842-4C24-8DA3-54095733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E078-C6DA-48CD-AC75-6133AFCF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F760A-8BD5-4809-9772-56B14FE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098E-ECA5-4920-A57D-F6FB5DC7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DE48-BAE6-4AE8-BEDC-5EEA196E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35814-F8EF-447F-AF31-E1275F1E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B5B4-A134-4443-B14E-AA9405EF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FD4C7-15C5-4820-A78E-A6D4696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35089-560E-476F-BAD6-3ECFB386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DA34-5BC3-4AF9-B5CC-570D2974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F1E-FF7A-425F-8B92-08AAEFE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EB70D-667E-45F8-BD70-B0563797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8CC75-00A5-4CDB-B570-C9115CE0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3BCC-C1E4-4975-B5BA-23033957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1D6E-F05E-43DE-982C-2E7B348A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361C6-AEC7-4171-A2B0-31F87A3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E620F-339E-4B9A-8693-6858A6AA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F8AC1-FD22-4BD2-82FF-6A140C68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FDC1-3F50-41F8-9694-0B7805C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70481-BBDA-4A32-B6BB-BDF7495C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A8428-771E-4585-A58F-EE6D1A8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61A-0E38-444C-9160-EC3122C8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967F-91CE-450A-B7A0-9F7547F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6874-4E05-4F52-9163-0429343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F429-2932-4CF8-89F5-D5FAD216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4F4C-D23E-4BF9-AFB0-FBF2492C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908B-9B48-4BA0-8A77-2B830393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5E08E-CC49-4068-B0F7-3C25D65D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41256-AF72-4D0B-B53D-4ABE959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F6EFD4-872A-4AFE-B514-498E6635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112E2-2319-4AD9-B599-82AE847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1241D-6940-451A-9EE3-C88EAD6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9D8-2CF3-4CA0-A4CF-93ED597D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5EAA3-CAC7-4E83-A00D-9D7EC3A7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DDB10D-BBF8-46DA-B1D2-64871B32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11F472-E0B9-4828-A054-716F68C9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C5B0F-C319-452F-A962-49A65B97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322CC-C8B9-4542-87C3-EB5D0801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B8F4B1-0702-42A1-8DA6-ED6B1033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444136-CCE7-42F0-AA59-E3599E20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F03BB-9C76-4FA7-8F73-5432FE2A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35A7FE-F378-441A-BB37-D630ED03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A432E-7120-48F2-9423-F0A164A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67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015B-3BFF-48B6-818B-52A447BD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8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8325-592E-4264-A8B2-6330E224E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3C81-4D67-49C4-997C-8D8CAE85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28F-8E5C-4396-85F8-947820C8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188-861D-48B4-88EA-19E80A9E37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2191-9857-4005-82A1-832777349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467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D933-9877-4ABA-925F-C58C2B603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1C9C-7229-40A6-A22B-075C1B76BA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d220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4F8-B28F-49DF-B6C2-7271C7D2C205}" type="slidenum">
              <a:rPr b="0" lang="en-US" sz="1400" spc="-1" strike="noStrike">
                <a:solidFill>
                  <a:srgbClr val="5d220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4FC-6EEE-46D9-8820-5BF8C02C84D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3D5A-673C-438E-BC2F-34810D55B8FC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D6C4-7B1D-4B55-BC4D-EA3D5E3AE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5D2-A708-45F8-8B13-FC1A12B23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3F17-B16A-49CF-A517-9A950A8E4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3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nergyquest.ca.gov/story/index.html#table" TargetMode="External"/><Relationship Id="rId2" Type="http://schemas.openxmlformats.org/officeDocument/2006/relationships/hyperlink" Target="http://www.ucsusa.org/clean_energy/renewable_energy_basics/offmen-how-biomass-energy-works.html#Converting_Biomass_to_Energy" TargetMode="External"/><Relationship Id="rId3" Type="http://schemas.openxmlformats.org/officeDocument/2006/relationships/hyperlink" Target="http://www.ucsusa.org/clean_energy/renewable_energy_basics/offmen-how-biomass-energy-works.html#Converting_Biomass_to_Energy" TargetMode="External"/><Relationship Id="rId4" Type="http://schemas.openxmlformats.org/officeDocument/2006/relationships/hyperlink" Target="http://www.ucsusa.org/clean_energy/renewable_energy_basics/offmen-how-biomass-energy-works.html#Converting_Biomass_to_Energy" TargetMode="External"/><Relationship Id="rId5" Type="http://schemas.openxmlformats.org/officeDocument/2006/relationships/hyperlink" Target="http://www.treepower.org/" TargetMode="External"/><Relationship Id="rId6" Type="http://schemas.openxmlformats.org/officeDocument/2006/relationships/hyperlink" Target="http://www.hnei.hawaii.edu/bio.assess.asp" TargetMode="External"/><Relationship Id="rId7" Type="http://schemas.openxmlformats.org/officeDocument/2006/relationships/hyperlink" Target="http://www.hnei.hawaii.edu/bio.assess.asp" TargetMode="External"/><Relationship Id="rId8" Type="http://schemas.openxmlformats.org/officeDocument/2006/relationships/hyperlink" Target="http://www.eia.doe.gov/kids/energyfacts/sources/IntermediateHydrogen.html" TargetMode="External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467"/>
                </a:solidFill>
                <a:latin typeface="Times New Roman"/>
              </a:rPr>
              <a:t>Alternative Sources of Energy and The Global Community</a:t>
            </a:r>
            <a:endParaRPr b="1" lang="en-US" sz="40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666880" cy="151128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6324480" y="2133720"/>
            <a:ext cx="2438640" cy="16542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4"/>
          <a:stretch/>
        </p:blipFill>
        <p:spPr>
          <a:xfrm>
            <a:off x="3124080" y="1676520"/>
            <a:ext cx="2881440" cy="28558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6"/>
          <a:stretch/>
        </p:blipFill>
        <p:spPr>
          <a:xfrm>
            <a:off x="6248520" y="4343400"/>
            <a:ext cx="2666880" cy="18399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7"/>
          <a:stretch/>
        </p:blipFill>
        <p:spPr>
          <a:xfrm>
            <a:off x="304920" y="4267080"/>
            <a:ext cx="2666880" cy="191304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2362320" y="63244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467"/>
                </a:solidFill>
                <a:latin typeface="Times New Roman"/>
              </a:rPr>
              <a:t>kuranaka09, snakamoto09, kflee09, schen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286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n energy source; renewable energy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es not produce air or water pollution, no fuel bur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4940280"/>
            <a:ext cx="883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earing of wooded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rds killed by wind turbine; one bird is killed per turbine per year; 10 million per year are killed by cars a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esthe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15048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3962520" y="4114800"/>
            <a:ext cx="152388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3962520" cy="172908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066680" y="0"/>
            <a:ext cx="2133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76212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lamilo Kohala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ma’ao South Point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wi Upolu Point, Big Is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heawa Pastures Ukumehame, Mau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ahe Ridge Nanakuli, Oah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0" y="3886200"/>
            <a:ext cx="4572000" cy="23274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5"/>
          <a:stretch/>
        </p:blipFill>
        <p:spPr>
          <a:xfrm>
            <a:off x="4495680" y="4761000"/>
            <a:ext cx="3124440" cy="20970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6"/>
          <a:stretch/>
        </p:blipFill>
        <p:spPr>
          <a:xfrm>
            <a:off x="5715000" y="3200400"/>
            <a:ext cx="3429000" cy="217476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0" y="624852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1111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1111"/>
                </a:solidFill>
                <a:latin typeface="Times New Roman"/>
              </a:rPr>
              <a:t>Ultimate wind production increa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66680" y="2895480"/>
            <a:ext cx="21337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09680" y="2666880"/>
            <a:ext cx="46483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1111"/>
                </a:solidFill>
                <a:latin typeface="Times New Roman"/>
              </a:rPr>
              <a:t>Solar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523520" y="2133720"/>
            <a:ext cx="6705720" cy="26668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187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1187"/>
                </a:solidFill>
                <a:latin typeface="Arial"/>
              </a:rPr>
              <a:t>3 Ways Solar Power i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Cells (photovoltaic ce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Water He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Solar Furn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118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187"/>
                </a:solidFill>
                <a:latin typeface="Arial"/>
              </a:rPr>
              <a:t>Also considering building solar tow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2438280" y="152280"/>
            <a:ext cx="426744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187"/>
                </a:solidFill>
                <a:latin typeface="Arial"/>
              </a:rPr>
              <a:t>How it works…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236196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fc4"/>
                </a:solidFill>
                <a:latin typeface="Times New Roman"/>
              </a:rPr>
              <a:t>Pros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886200" cy="144792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require fu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produce waste or pol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Renewable energy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0" y="3780000"/>
            <a:ext cx="5334120" cy="307800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5943600" y="3429000"/>
            <a:ext cx="2362320" cy="7621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1fc4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62720" y="4419720"/>
            <a:ext cx="320040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needs a very large area of solar panels to collect a useful amount of pow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does not work at n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Weath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1fc4"/>
                </a:solidFill>
                <a:latin typeface="Arial"/>
              </a:rPr>
              <a:t>expensive to build solar power st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327636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71fc4"/>
                </a:solidFill>
                <a:latin typeface="Times New Roman"/>
              </a:rPr>
              <a:t>Hawaii</a:t>
            </a:r>
            <a:endParaRPr b="1" lang="en-US" sz="38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0" y="4343040"/>
            <a:ext cx="4191120" cy="25146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highest electricity prices in the n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state increased credit for single-family residential PV systems to $5,000 while commercial photovoltaics are now $500,00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one of most successful solar water heating programs in n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171fc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71fc4"/>
                </a:solidFill>
                <a:latin typeface="Times New Roman"/>
              </a:rPr>
              <a:t>85 MW Solar Energy in Big Island, Maui, and Oah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Around the World…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5105520" y="3505320"/>
            <a:ext cx="3124080" cy="18586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5611680" y="914400"/>
            <a:ext cx="2335320" cy="251460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4419720" y="5410080"/>
            <a:ext cx="4724280" cy="144792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Worldwide production reached 1.46 Gigawatts in 2005, and is doubling every 3 year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Has been increased interest in solar energy; numerous countries are considering ide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2666880"/>
            <a:ext cx="60199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d467"/>
                </a:solidFill>
                <a:latin typeface="Times New Roman"/>
              </a:rPr>
              <a:t>Biomass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514600" y="2590920"/>
          <a:ext cx="3886200" cy="1854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590920"/>
                    <a:ext cx="3886200" cy="1854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55" dir="8100000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2666880" y="4724280"/>
            <a:ext cx="36576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OW ENERGY EX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hermo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o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14400" y="1295280"/>
            <a:ext cx="7238880" cy="13716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mass is matter thought of as “garb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ludes paper products that cannot be recycled into other paper products and normal household waste that is sent to the dum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it Work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523880" y="3808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1371600"/>
            <a:ext cx="4114800" cy="17524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s as fertilizer for repla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roves air quality; reduces pollu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proves water qua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duce dependence on 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5638680"/>
            <a:ext cx="4114800" cy="60984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uld cause global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0" y="3773520"/>
            <a:ext cx="4648320" cy="30844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3"/>
          <a:stretch/>
        </p:blipFill>
        <p:spPr>
          <a:xfrm>
            <a:off x="5403960" y="0"/>
            <a:ext cx="37400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5943600" y="4172040"/>
            <a:ext cx="3200400" cy="26859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3505320" y="533520"/>
            <a:ext cx="213336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819520" y="37339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es not have a fuel pl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3124080"/>
            <a:ext cx="4952880" cy="4572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urce of renewable energy in Hawai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4"/>
          <a:stretch/>
        </p:blipFill>
        <p:spPr>
          <a:xfrm>
            <a:off x="0" y="4157640"/>
            <a:ext cx="2895480" cy="27003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971800" y="4533840"/>
            <a:ext cx="289548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t Department of Business and Economic Development and Tourism completes assessments of the different biomass energy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04760" y="2666880"/>
            <a:ext cx="56386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71fc4"/>
                </a:solidFill>
                <a:latin typeface="Times New Roman"/>
              </a:rPr>
              <a:t>Water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828800" y="2438280"/>
            <a:ext cx="5943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71fc4"/>
                </a:solidFill>
                <a:latin typeface="Times New Roman"/>
              </a:rPr>
              <a:t>Nuclear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Work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s energy so work can be accomplished: propulsion, heat, generation of electr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-235 is so concentrated that nuclear fission occurs—uranium enriched so contains 2-3% or more of U-2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Fue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857760" cy="38196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1981080" y="5334120"/>
            <a:ext cx="5715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929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-380880" y="1904760"/>
            <a:ext cx="4876560" cy="434340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quire less fu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es not release contaminants into environment when well op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its little or no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uclear technology already available; does not require development first in order to proce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amounts of energy;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ton of uranium produces energy greater than the energy produced by several million tons of coal or several million barrels of 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1066320" y="685800"/>
            <a:ext cx="259092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4800600" y="1905120"/>
            <a:ext cx="4343400" cy="33526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adioactive contam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use nuclear energy for proliferation of nuclear weap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possibility if nuclear reactor undergoes melt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waste disposal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reactors not long l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could become targets for sabotage, terrorist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imited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take long time to build many pl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10080" y="685800"/>
            <a:ext cx="2743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4"/>
          <a:srcRect l="0" t="0" r="0" b="42528"/>
          <a:stretch/>
        </p:blipFill>
        <p:spPr>
          <a:xfrm>
            <a:off x="4648320" y="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5"/>
          <a:srcRect l="0" t="0" r="0" b="42528"/>
          <a:stretch/>
        </p:blipFill>
        <p:spPr>
          <a:xfrm>
            <a:off x="4648320" y="575784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6"/>
          <a:srcRect l="0" t="0" r="0" b="42528"/>
          <a:stretch/>
        </p:blipFill>
        <p:spPr>
          <a:xfrm>
            <a:off x="7848720" y="0"/>
            <a:ext cx="1295280" cy="110016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7"/>
          <a:srcRect l="0" t="0" r="0" b="42528"/>
          <a:stretch/>
        </p:blipFill>
        <p:spPr>
          <a:xfrm>
            <a:off x="7848720" y="5757840"/>
            <a:ext cx="12952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rcRect l="1595" t="1395" r="4404" b="53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5486400" y="4468680"/>
            <a:ext cx="3657600" cy="238932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49528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ound the World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28240" y="4800600"/>
            <a:ext cx="4343400" cy="17524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uary 2007: 30 countries operating 435 nuclear reactors for electr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 new plants under construction in 12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 Korea and I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94920" y="2514600"/>
            <a:ext cx="61722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Hydrogen Gas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99036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d467"/>
                </a:solidFill>
                <a:latin typeface="Times New Roman"/>
              </a:rPr>
              <a:t>Geothermal Energy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685800" y="1828800"/>
            <a:ext cx="7924680" cy="356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heco.com/vcmcontent/FileScan/PDFConvert/giovanni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state.hi.us/dbedt/ert/wwg/history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power-technology.com/projects/hawaii/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eia.doe.gov/kids/energyfacts/sources/renewable/wind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olcomhouse.com/windpower.htm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telosnet.com/wind/future.html</a:t>
            </a: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powerscorecard.org/tech_detail.cfm?resource_id=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home.clara.net/darvill/altenerg/solar.ht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cienceclarified.com/Al-As/Alternative-Energy-Sources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n.wikipedia.org/wiki/Renewable_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forsolar.org/?q=node/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hawaiisenergyfutur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omaprieta.sierraclub.org/greenpower/renewabletech.htm#Geothe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nei.or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ibrary.thinkquest.org/3471/nuclear_energy_body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home.clara.net/darvill/altenerg/images/MarineTurbines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arthsci.org/mineral/energy/hydro/hydroplant-animate.gi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img.search.com/thumb/a/a4/Water_turbine.jpg/260px-Water_turbine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164"/>
                </a:solidFill>
                <a:latin typeface="Times New Roman"/>
              </a:rPr>
              <a:t>Bibliography</a:t>
            </a:r>
            <a:endParaRPr b="1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609480" y="2133720"/>
            <a:ext cx="7925040" cy="3561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navitron.org.uk/Dam.jp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en.wikipedia.org/wiki/Water_p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discoverychannel.co.uk/technology/alternative_energy/water/index.s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library.thinkquest.org/26366/text/alternative/otec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rise.org.au/info/Tech/geo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gc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flyaway.canalblog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worldchanging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ecolo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energy.iastate.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scienceacross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hawaii-count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mccullagh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liv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alternate-energy-source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theage.com.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csusm.ed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ttp:// www.art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6212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76320" y="1828800"/>
            <a:ext cx="90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Chapter 10: biomass energy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Energy Story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April, 22, 2002.  California Energy Commission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1"/>
              </a:rPr>
              <a:t>http://www.energyquest.ca.gov/story/index.html#table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ow Biomass Works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Clean Energy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8/26/06.  Union of Concerned Scientists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2"/>
              </a:rPr>
              <a:t>http://www.ucsusa.org/clean_energy/renewable_energy_basics/offmen-how-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3"/>
              </a:rPr>
              <a:t> biomass-energy-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4"/>
              </a:rPr>
              <a:t>works.html#Converting_Biomass_to_Energy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Planet Power Energy and the Environment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Common Purpose Institute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5"/>
              </a:rPr>
              <a:t>http://www.treepower.org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Biomass Resources for Hydrogen Production via Gasification.”   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University of Hawaii at Manoa Hawaii Natural Energy Institute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.  December 9 2004. Hawaii Natural Energy Institute.  March 26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6"/>
              </a:rPr>
              <a:t>http://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7"/>
              </a:rPr>
              <a:t>www.hnei.hawaii.edu/bio.assess.asp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ydrogen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Energy Information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. December 2006.  National Energy Education Development Project.  March 27, 2007 </a:t>
            </a:r>
            <a:r>
              <a:rPr b="0" lang="en-US" sz="1400" spc="-1" strike="noStrike" u="sng">
                <a:solidFill>
                  <a:srgbClr val="995421"/>
                </a:solidFill>
                <a:uFillTx/>
                <a:latin typeface="Times New Roman"/>
                <a:hlinkClick r:id="rId8"/>
              </a:rPr>
              <a:t>http://www.eia.doe.gov/kids/energyfacts/sources/IntermediateHydrogen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2121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Hydrogen Facts.”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Consumer Energy Council of America Leadership on Essential Services for Consumers.</a:t>
            </a:r>
            <a:r>
              <a:rPr b="0" lang="en-US" sz="1400" spc="-1" strike="noStrike">
                <a:solidFill>
                  <a:srgbClr val="212164"/>
                </a:solidFill>
                <a:latin typeface="Times New Roman"/>
              </a:rPr>
              <a:t>  2000.  Consumer Energy Council of America.  March 27, 2007.  </a:t>
            </a:r>
            <a:r>
              <a:rPr b="0" lang="en-US" sz="1400" spc="-1" strike="noStrike" u="sng">
                <a:solidFill>
                  <a:srgbClr val="212164"/>
                </a:solidFill>
                <a:uFillTx/>
                <a:latin typeface="Times New Roman"/>
              </a:rPr>
              <a:t>http://www.cecarf.org/Programs/Fuels/Fuelfacts/HydrogenFacts.html</a:t>
            </a: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ibli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What is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Hydroelectric Power S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Eg. </a:t>
            </a: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River power plants, storage power plants, pumped storage power plants, tidal power stations, wave power st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ow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7339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1111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</a:rPr>
              <a:t>River Power Plant D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54080" y="1447920"/>
            <a:ext cx="3655800" cy="380988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it Works…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3962520" y="1450800"/>
            <a:ext cx="5181480" cy="38833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762120" y="5791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al layout of Hydropower Plant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it Works Continu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ve Power 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838080" y="2133720"/>
          <a:ext cx="3505320" cy="255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350532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"/>
          <p:cNvGraphicFramePr/>
          <p:nvPr/>
        </p:nvGraphicFramePr>
        <p:xfrm>
          <a:off x="4952880" y="1828800"/>
          <a:ext cx="3211560" cy="3352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1828800"/>
                    <a:ext cx="32115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4724280" y="54100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dal Pow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nvironmental Impa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1066680"/>
            <a:ext cx="4876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-cost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harmful emissions or C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power: 95%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76920" y="10666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major o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oir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335268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29200" y="5029200"/>
            <a:ext cx="3886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s/Oc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1911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  <a:effectLst>
            <a:outerShdw dist="25455" dir="81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361960" y="2895480"/>
            <a:ext cx="480060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Wind Power</a:t>
            </a:r>
            <a:endParaRPr b="1" lang="en-US" sz="6600" spc="-1" strike="noStrike">
              <a:solidFill>
                <a:srgbClr val="ffd46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457200" y="1523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lades collect the wind’s kinetic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496960" cy="2514600"/>
          </a:xfrm>
          <a:prstGeom prst="rect">
            <a:avLst/>
          </a:prstGeom>
          <a:ln w="0">
            <a:noFill/>
          </a:ln>
        </p:spPr>
      </p:pic>
      <p:pic>
        <p:nvPicPr>
          <p:cNvPr id="652" name="ani111" descr=""/>
          <p:cNvPicPr/>
          <p:nvPr/>
        </p:nvPicPr>
        <p:blipFill>
          <a:blip r:embed="rId3"/>
          <a:stretch/>
        </p:blipFill>
        <p:spPr>
          <a:xfrm>
            <a:off x="990720" y="3429000"/>
            <a:ext cx="3352680" cy="235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495680" y="2819520"/>
            <a:ext cx="198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blades are connected to a drive shaft that turns an electric generator to produce electric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7200" y="22096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wind flows over the shaped blades causing lift, causing them to tu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190760" y="12189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ow it works…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4952880" cy="990720"/>
          </a:xfrm>
          <a:prstGeom prst="rect">
            <a:avLst/>
          </a:prstGeom>
          <a:noFill/>
          <a:ln w="0">
            <a:noFill/>
          </a:ln>
          <a:effectLst>
            <a:outerShdw dist="36147" dir="81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ertical/Horizontal</a:t>
            </a:r>
            <a:endParaRPr b="1" lang="en-US" sz="4400" spc="-1" strike="noStrike">
              <a:solidFill>
                <a:srgbClr val="ffd467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5305320"/>
            <a:ext cx="4038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3 bl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oser to ground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lower sp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0532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eller-type r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er-type air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6:07:46Z</dcterms:created>
  <dc:creator>Maemae Elem. ESLL Program</dc:creator>
  <dc:description/>
  <dc:language>en-US</dc:language>
  <cp:lastModifiedBy> </cp:lastModifiedBy>
  <dcterms:modified xsi:type="dcterms:W3CDTF">2007-04-05T06:27:06Z</dcterms:modified>
  <cp:revision>87</cp:revision>
  <dc:subject/>
  <dc:title>PowerPoint Presentation</dc:title>
</cp:coreProperties>
</file>